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16.png" ContentType="image/png"/>
  <Override PartName="/ppt/media/image14.png" ContentType="image/png"/>
  <Override PartName="/ppt/media/image1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DFA1-F198-42A5-872E-30B028787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E482-D437-422A-96F5-624768F7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90A2-B354-4C3A-84D8-3AF4D8B45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C760-A200-4447-9E86-A2025D61F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E218-2FD4-4A9C-BE5C-52032386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9B05-0555-4B6E-B206-F8F67704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8042-921C-4F4A-8A0F-2B9EE416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44B5-D4FE-4DE0-AF79-F74C5001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B596-4675-4F69-A8AC-8724547E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7335-9849-42FD-B669-2E8813AB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36E4-1BDF-44F3-8877-2116F155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41D7-56BA-4554-93C5-1E9A5C95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5514-3F00-41D2-A55F-482DA98E7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vxENKlcs2Tw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hhs6hlbLuM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csis.pace.edu/~mmosteiro/pub/paperToCS06.pdf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W3_7cD9L1A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3mxp4JLGasE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users.cs.cf.ac.uk/C.L.Mumford/tristan/CountPage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GCae1WNvnZ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rtă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hnici Avansate de Program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6094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ge S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533520" y="1447920"/>
            <a:ext cx="79246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complexităţ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azul cel mai nefavorabil: de fiecare dată se fac toate comparaţile la interclas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(n log(n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(0) = T(1)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(2n) = 2T(n) + 2n, n&g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(2) = 2; T(4) = 8; T(8) = 24; T(16) = 64; T(32) = 160; 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(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= 2 T(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k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+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4 T(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k-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+ 2*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8 T(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k-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+ 3*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…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(1) + k*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k*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(n) = n* log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6094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ge S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533520" y="1447920"/>
            <a:ext cx="8458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complexităţ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azul medi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pul mediu pentru toate permutările posibile ale unei secvenţe de intr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(n log(n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azul cel mai favorab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(n log(n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6094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ck S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533520" y="1447920"/>
            <a:ext cx="79246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 sorta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 comparaţ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arianta de bază est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bil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şi necesită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sum suplimentar de memor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ick_so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rra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 left,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(length(array) &lt; 2) return ar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vot = last(arra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ove(last(array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ach x in ar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(x &lt;= pivot) append(left, 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se append(right, 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ncaten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ick_so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eft), pivot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ick_so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ight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ă recursiv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zentare la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vxENKlcs2T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6094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ck S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poza"/>
          <p:cNvPicPr/>
          <p:nvPr/>
        </p:nvPicPr>
        <p:blipFill>
          <a:blip r:embed="rId1"/>
          <a:stretch/>
        </p:blipFill>
        <p:spPr>
          <a:xfrm>
            <a:off x="771480" y="2438280"/>
            <a:ext cx="768672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6094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ck S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533520" y="1447920"/>
            <a:ext cx="792468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complexităţ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azul cel mai nefavorabil: de fiecare dată pivotul este elementul marginal, deci una dintre liste este de lungime 1 şi lungimea celeilalte scade cu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(0) = T(1)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(n + 1) = T(n) + T(0) + n = T(n) + n, n&g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(n + 1) = (T(n - 1) + (n – 1)) + n = … = T(1) + 1 + 2 + … + n = O(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6094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ck S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533520" y="144792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complexităţ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azul medi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pul mediu pentru toate permutările posibile ale unei secvenţe de intr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(n log(n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(varianta). Alegerea aleatoare a pivotului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domized quicks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pul mediu pentru toate alegerile posibile ale pivotului, pentru orice secvenţă de intr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(n log(n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6094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ck S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533520" y="1447920"/>
            <a:ext cx="7924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complexităţ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azul cel mai favorabil: de fiecare dată se înjumătăţeşte lista de sort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m considera un majorant al numărului de comparaţii pentru construirea celor două sublis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(n log(n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(0) = T(1)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(2n) = 2T(n) + 2n, n&g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i: T(n) = O(n log(n)) (ca 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rge_s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6094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rtarea prin inserţ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533520" y="1447920"/>
            <a:ext cx="7924680" cy="43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 sorta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 comparaţ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bilă, pe lo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ertion_so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rra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i = 2 to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y = array[i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 = i -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le (j ≥ 1 and array[j] &gt; ke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ray[j + 1] = array[j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 = j −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ray[j + 1] = k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zentare la   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mhhs6hlbL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137160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complexităţ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azul cel mai nefavorabil: lista este sortată descrescă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compară fiecare element cu toate cele care îl prec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762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rtarea prin inserţ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133720" y="4648320"/>
          <a:ext cx="4038480" cy="1096920"/>
        </p:xfrm>
        <a:graphic>
          <a:graphicData uri="http://schemas.openxmlformats.org/drawingml/2006/table">
            <a:tbl>
              <a:tblPr/>
              <a:tblGrid>
                <a:gridCol w="577800"/>
                <a:gridCol w="576360"/>
                <a:gridCol w="576000"/>
                <a:gridCol w="577800"/>
                <a:gridCol w="576360"/>
                <a:gridCol w="576360"/>
                <a:gridCol w="577800"/>
              </a:tblGrid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90" name="Object 5"/>
              <p:cNvSpPr txBox="1"/>
              <p:nvPr/>
            </p:nvSpPr>
            <p:spPr>
              <a:xfrm>
                <a:off x="1219320" y="3124080"/>
                <a:ext cx="48816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i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533520" y="1447920"/>
            <a:ext cx="79246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complexităţ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azul medi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ă variante îmbunătăţi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sort (gapped insertion sort)    are complexitate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(n log(n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 adresa    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sis.pace.edu/~mmosteiro/pub/paperToCS06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azul cel mai favorabil: lista este sortat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compară fiecare element doar cu precedent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(n) = n – 1 = O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aceeaşi complexitate ca Bubble s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762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rtarea prin inserţ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rt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rtarea este importantă atât ca procedură în sine, cât şi ca preprocesare pentru alte activităţi (căutări, interclasări, extrageri de date în formate predefinit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anent se îmbunătăţesc algoritmii de sortare şi se caută alţii noi, cu performanţe mai bune sau pentru probleme no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. E. Knuth, The Art of Computer Programming, Volume 3: Sorting and Searching. (780 pagini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d.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6094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rtarea prin selecţ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533520" y="1447920"/>
            <a:ext cx="7924680" cy="35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 sorta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 comparaţ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bilă, pe lo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ion_so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rra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i = 1 to n -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y = min (array[i]… array[n]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 = first position of k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ap(array[i], array[j]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zentare la   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TW3_7cD9L1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3"/>
          <p:cNvSpPr/>
          <p:nvPr/>
        </p:nvSpPr>
        <p:spPr>
          <a:xfrm>
            <a:off x="457200" y="1371600"/>
            <a:ext cx="7924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complexităţ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compară fiecare element cu toate cele care îl succ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aceeaşi complexitate ca sortarea prin interschimbare (swap sort), face doar mai puţine interschimbă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762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rtarea prin selecţ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133720" y="5075280"/>
          <a:ext cx="4038480" cy="1096920"/>
        </p:xfrm>
        <a:graphic>
          <a:graphicData uri="http://schemas.openxmlformats.org/drawingml/2006/table">
            <a:tbl>
              <a:tblPr/>
              <a:tblGrid>
                <a:gridCol w="577800"/>
                <a:gridCol w="576360"/>
                <a:gridCol w="576000"/>
                <a:gridCol w="577800"/>
                <a:gridCol w="576360"/>
                <a:gridCol w="576360"/>
                <a:gridCol w="577800"/>
              </a:tblGrid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0" name="Object 31"/>
              <p:cNvSpPr txBox="1"/>
              <p:nvPr/>
            </p:nvSpPr>
            <p:spPr>
              <a:xfrm>
                <a:off x="1366920" y="2749680"/>
                <a:ext cx="488160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i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6094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rtarea prin număr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533520" y="1447920"/>
            <a:ext cx="830556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 sorta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 alte metode (distribuţi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bilă, cu spaţiu supliment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inţe: valori întregi strict pozitive, valoare maximă cunoscută (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or i = 1 to 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[i]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or i = 1 to 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[A[i]] +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// C[i] now contains the number of elements equal to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or i = 2 to 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[i] = C[i] + C[i − 1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// C[i] now contains the number of elements less than or equal to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or i = n downto 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[C[A[i]]] = A[i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[A[i]] -=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ezentare la     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http://www.youtube.com/watch?v=3mxp4JLG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533520" y="1447920"/>
            <a:ext cx="792468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et la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users.cs.cf.ac.uk/C.L.Mumford/tristan/CountPage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762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rtarea prin număr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5"/>
          <p:cNvGraphicFramePr/>
          <p:nvPr/>
        </p:nvGraphicFramePr>
        <p:xfrm>
          <a:off x="914400" y="1828800"/>
          <a:ext cx="7238880" cy="470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828800"/>
                    <a:ext cx="7238880" cy="47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533520" y="1447920"/>
            <a:ext cx="792468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tinua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762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rtarea prin număr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6"/>
          <p:cNvGraphicFramePr/>
          <p:nvPr/>
        </p:nvGraphicFramePr>
        <p:xfrm>
          <a:off x="914400" y="1828800"/>
          <a:ext cx="7391520" cy="48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7391520" cy="48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533520" y="1447920"/>
            <a:ext cx="7924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complexităţ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(n + 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ferent de valorile din list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că n = k, atunci este O(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presupune că n&gt;&gt;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că n&lt;&lt;k, atunci C reţine multe valori duplicat: inefici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restricţii privind valorile de intr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762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rtarea prin număr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6094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cket s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533520" y="1447920"/>
            <a:ext cx="830556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rtare prin pachete; un pachet = un interval de valori; pachetele sunt disjuncte şi acoperă tot setul de valo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 sorta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 alte metode (distribuţi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bilă, cu spaţiu supliment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Variantă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sortării prin număr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inţe: valori pozitive de precizie fixată, valoare maximă cunoscută (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cket_s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rr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ize k empty buckets (disjoint covering ordered interva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ach x in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 x in corresponding bu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distribution 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ach bucke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ble_s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each bucket contains a sor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caten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ll buckets from left to righ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ezentare la      http://www.youtube.com/watch?v=3mxp4JLG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7238880" cy="43401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3"/>
          <p:cNvSpPr/>
          <p:nvPr/>
        </p:nvSpPr>
        <p:spPr>
          <a:xfrm>
            <a:off x="6094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cket s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533520" y="1447920"/>
            <a:ext cx="830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ine din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5951520" y="1295280"/>
            <a:ext cx="319248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533520" y="1447920"/>
            <a:ext cx="7924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complexităţ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inde de sortarea aleasă (pentru fiecare pache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că se foloseşte sortarea prin inserţie, în cazul mediu se obţine o complexitate liniar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(n + k) - dacă n = k, atunci O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ar în cazul cel mai nefavorabil o complexitate pătrat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presupune că n&gt;&gt;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că n&lt;&lt;k, atunci multe pachete sunt vide: inefici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că valorile sunt concentrate (multe ajung în acelaşi pachet), atunci devine ineficient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restricţii privind valorile de intr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762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cket s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6094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x s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533520" y="1447920"/>
            <a:ext cx="8305560" cy="35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 sorta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 alte metode (distribuţi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bilă, cu spaţiu supliment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Variantă 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sortării prin pachete (bucket sor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inţe: valori întregi strict pozitive, număr maxim de cifre cunoscut (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dix_s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rr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i = 1 to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cket_sort_on_digit_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rr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LSD Radix Sort – Least Significant Digit Radix S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ezentare la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://research.cs.vt.edu/AVresearch/Radix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rt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e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metodă prin ca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list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valori est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utat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tfel încât valorile să fi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don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 înseamnă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st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presupune 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dine total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că există valori identice, le putem identifica poziţiile iniţiale/final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6" descr=""/>
          <p:cNvPicPr/>
          <p:nvPr/>
        </p:nvPicPr>
        <p:blipFill>
          <a:blip r:embed="rId1"/>
          <a:stretch/>
        </p:blipFill>
        <p:spPr>
          <a:xfrm>
            <a:off x="533520" y="3105000"/>
            <a:ext cx="8381880" cy="3143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2"/>
          <a:stretch/>
        </p:blipFill>
        <p:spPr>
          <a:xfrm>
            <a:off x="5945040" y="1371600"/>
            <a:ext cx="3198960" cy="33861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4"/>
          <p:cNvSpPr/>
          <p:nvPr/>
        </p:nvSpPr>
        <p:spPr>
          <a:xfrm>
            <a:off x="533520" y="1447920"/>
            <a:ext cx="830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ine din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6094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x s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533520" y="1447920"/>
            <a:ext cx="7924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complexităţ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că fiecare cifră poate lua k valori, atunci în cazul mediu se obţine o complexitate liniar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(d(n + k)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că d este constant şi n = k, atunci O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pot consider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he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nu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if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 fiecare pas (cele k posibilităţi) – extindere pentru coduri, caractere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restricţii privind valorile de intr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762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x s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rtare prin răsturn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6248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lipping sort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in alte metode (răsturnar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abilă, pe lo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permite inversarea ordinii pentru primele elemente. Se caută algoritmi care să rezolve problema prin cât mai puţine inversăr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a mai simplă variantă necesită cel mult 2n−3 inversăr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 mai mare element dintre cele nesortate deja se aduce pe prima poziţie şi apoi în poziţia corect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le 3 elemente necesită cel mult 3 inversiu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 algoritm la (vezi autorii !!)  http://citeseerx.ist.psu.edu/viewdoc/download?doi=10.1.1.141.2830&amp;rep=rep1&amp;type=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et la http://www.cut-the-knot.org/SimpleGames/Flipper.s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6477120" y="1219320"/>
          <a:ext cx="2514600" cy="159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1219320"/>
                    <a:ext cx="2514600" cy="15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6"/>
          <p:cNvGraphicFramePr/>
          <p:nvPr/>
        </p:nvGraphicFramePr>
        <p:xfrm>
          <a:off x="6621480" y="4724280"/>
          <a:ext cx="2522520" cy="16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1480" y="4724280"/>
                    <a:ext cx="2522520" cy="16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8"/>
          <p:cNvGraphicFramePr/>
          <p:nvPr/>
        </p:nvGraphicFramePr>
        <p:xfrm>
          <a:off x="6553080" y="2971800"/>
          <a:ext cx="2486160" cy="159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53080" y="2971800"/>
                    <a:ext cx="248616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533520" y="14479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complexităţ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762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el de comporta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33520" y="1828800"/>
          <a:ext cx="8305560" cy="4967280"/>
        </p:xfrm>
        <a:graphic>
          <a:graphicData uri="http://schemas.openxmlformats.org/drawingml/2006/table">
            <a:tbl>
              <a:tblPr/>
              <a:tblGrid>
                <a:gridCol w="2076480"/>
                <a:gridCol w="2076480"/>
                <a:gridCol w="2076120"/>
                <a:gridCol w="2076480"/>
              </a:tblGrid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favorab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ab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 log(n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 log(n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 log(n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 log(n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 log(n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er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b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k + 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k + 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k + 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k + 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k + 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d(k + n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d(k + n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d(k + n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ipp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rtare cu ansam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 sorta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 comparaţ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nu est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bilă, pe lo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ea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 un vector (deci 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uctură de date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 poate fi văzut ca u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rbore binar compl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numai de pe ultimul nivel pot lipsi cele mai din dreapta nodur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rietate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x-He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entru orice noduri fiu-pări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oarea stocată în nodul-fiu ≤ valoarea stocată în nodul-pări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rietate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n-He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entru orice noduri fiu-pări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oarea stocată în nodul-fiu ≥ valoarea stocată în nodul-pări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vor prezenta Max-He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p s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p s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980120" cy="4094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2"/>
          <a:stretch/>
        </p:blipFill>
        <p:spPr>
          <a:xfrm>
            <a:off x="6794640" y="0"/>
            <a:ext cx="234936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n Proprietate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x-He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tru orice subarbore: cea mai mare valoare este stocată în rădăcin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Înălţimea unui n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e numărul maxim de muchii până la o frunz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Înălţimea ansamblulu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e înălţimea rădăcin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n proprietăţile arborilor binari compleţ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înălţimea ansamblului cu n elemente este O(log(n)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p s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p sort se realizează în 2 eta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ieşte ansamblul asociat vectorului de intr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od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pify (A, i)    asamblează subarborele c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rădăcina în nodul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_heap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ează ansambl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oda: Heap_sort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licaţii suplimentare l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s://www.youtube.com/watch?v=B7hVxCmfP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et: https://www.cs.usfca.edu/~galles/visualization/HeapSort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cse.iitk.ac.in/users/dsrkg/cs210/applets/sorting/heapSort/heapSort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p s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eap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, 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i has a_larger_chi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ap (A[i], largest_chi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pify(A, location largest_child was 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it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(log(n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tru că aplicată pe rădăcină poate ajunge până la o frunz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p s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533520" y="1557360"/>
            <a:ext cx="6727680" cy="48434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p s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eap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,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2"/>
          <a:stretch/>
        </p:blipFill>
        <p:spPr>
          <a:xfrm>
            <a:off x="7078680" y="0"/>
            <a:ext cx="206532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rt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 înseamnă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st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tructură de 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re conţine o mulţime de valori identificate printr-un index (echivalent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venţ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a 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mplementeaz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intr-un vector, o listă (simplu-înlănţuită sau dublu-înlănţuită) sau un fişier indexat (dacă nu încape în memoria internă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uild_he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psize = length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 = floor(length(A)/2) downto 1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lowest parent up to 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pify(A, 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(n log(n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p s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380880" y="409680"/>
            <a:ext cx="6061320" cy="64483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7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p s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"/>
          <p:cNvPicPr/>
          <p:nvPr/>
        </p:nvPicPr>
        <p:blipFill>
          <a:blip r:embed="rId2"/>
          <a:stretch/>
        </p:blipFill>
        <p:spPr>
          <a:xfrm>
            <a:off x="6794640" y="0"/>
            <a:ext cx="234936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Heap_s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_heap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 = length(A) downto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start at bottom and work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ap (A[1], A[i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psize = heapsize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pify(A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(n log(n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tru că se aplică o dată Build_heap şi Heapify de n-1 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p s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380880" y="708120"/>
            <a:ext cx="6810480" cy="6149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"/>
          <p:cNvPicPr/>
          <p:nvPr/>
        </p:nvPicPr>
        <p:blipFill>
          <a:blip r:embed="rId2"/>
          <a:stretch/>
        </p:blipFill>
        <p:spPr>
          <a:xfrm>
            <a:off x="7078680" y="0"/>
            <a:ext cx="2065320" cy="21859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p s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CE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tru că ansamblul (heap) are aplicaţ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exemplu: cozile cu priorităţi (alocare procese în programarea concurent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coadă cu priorităţi este o coadă cu elemente sor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evre posibi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(A, x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(log(n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ct_max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(log(n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(A, i, k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(log(n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p s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139160" cy="4697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"/>
          <p:cNvPicPr/>
          <p:nvPr/>
        </p:nvPicPr>
        <p:blipFill>
          <a:blip r:embed="rId2"/>
          <a:stretch/>
        </p:blipFill>
        <p:spPr>
          <a:xfrm>
            <a:off x="7078680" y="0"/>
            <a:ext cx="2065320" cy="218592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p s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838800" y="1222200"/>
            <a:ext cx="26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(A, 9, 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rtare cu arbori de căutare binar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inary search tre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e sorta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in comparaţ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u es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bilă, pe lo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rbore de căutare bi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care nod are max. 2 f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tru orice nod 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că y face parte din subarborele stâng al lui x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unci y ≤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că y face parte din subarborele drept al lui x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unci y ≥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rtare cu arbori de căutare binar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bore binar de cău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685800" y="2743200"/>
            <a:ext cx="7848720" cy="3322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"/>
          <p:cNvPicPr/>
          <p:nvPr/>
        </p:nvPicPr>
        <p:blipFill>
          <a:blip r:embed="rId2"/>
          <a:stretch/>
        </p:blipFill>
        <p:spPr>
          <a:xfrm>
            <a:off x="7078680" y="1143000"/>
            <a:ext cx="206532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area se realizează în 2 eta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ieşte arborele binar de căut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od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(A, x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ează valoarea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_BST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ează arborele binar de căut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oda: BST_sort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licaţii suplimentare l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s://www.youtube.com/watch?v=VrI8oQMq1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zentare l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s://people.ksp.sk/~kuko/gnarley-trees/?page_id=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rtare cu arbori binari de căut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51920" y="121932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Ins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,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x ≤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y.left_child is NULL) append x as y.left_chi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 y = y.left_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y.right_child is NULL) append x as y.right_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 y = y_right_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append not d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T_size+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ate: O(n) cazul cel mai nefavorabil; O(log(n)) cazul medi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rtare cu arbori binari de căut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rt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presupune 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dine total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relaţie binar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xiv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simetric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zitiv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ce două elemente sunt comparab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e: ordinea obişnuită (numere); ordinea lexicografică (şiruri de caracter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ine parţială: incluziunea (mulţimi), divizibilitatea (numere natural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rtare cu arbori binari de căut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1600200" y="3124080"/>
            <a:ext cx="5272200" cy="2608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"/>
          <p:cNvPicPr/>
          <p:nvPr/>
        </p:nvPicPr>
        <p:blipFill>
          <a:blip r:embed="rId2"/>
          <a:stretch/>
        </p:blipFill>
        <p:spPr>
          <a:xfrm>
            <a:off x="6794640" y="1066680"/>
            <a:ext cx="2349360" cy="24876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0"/>
          <p:cNvSpPr/>
          <p:nvPr/>
        </p:nvSpPr>
        <p:spPr>
          <a:xfrm>
            <a:off x="1143000" y="2362320"/>
            <a:ext cx="42670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(A, 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51920" y="121932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Build_B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T_size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 = 1 to 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(A, A[i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azul cel mai nefavorabil; O(n log(n)) cazul medi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rtare cu arbori de căutare binar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rtare cu arbori de căutare binar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1600200" y="3124080"/>
            <a:ext cx="5272200" cy="26085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"/>
          <p:cNvPicPr/>
          <p:nvPr/>
        </p:nvPicPr>
        <p:blipFill>
          <a:blip r:embed="rId2"/>
          <a:stretch/>
        </p:blipFill>
        <p:spPr>
          <a:xfrm>
            <a:off x="6794640" y="1066680"/>
            <a:ext cx="2349360" cy="24876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380880" y="1371600"/>
            <a:ext cx="54864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{12, 18, 5, 9, 19, 2, 15, 17, 13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(A)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_BST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T_size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51920" y="121932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BST_s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y not NU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T_sort(left(A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T_sort(right(A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ENŢIE: Este una dintre parcurgerile arborilor binar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e-ordine; in-ordine; post-ord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rtare cu arbori binari de căut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rtare cu arbori binari de căut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5181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{2 5 7 8 6 5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_BST(A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ST_sort(A) = {2 5 5 6 7 8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rcRect l="0" t="0" r="0" b="18088"/>
          <a:stretch/>
        </p:blipFill>
        <p:spPr>
          <a:xfrm>
            <a:off x="3352680" y="2133720"/>
            <a:ext cx="3227400" cy="2730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"/>
          <p:cNvPicPr/>
          <p:nvPr/>
        </p:nvPicPr>
        <p:blipFill>
          <a:blip r:embed="rId2"/>
          <a:stretch/>
        </p:blipFill>
        <p:spPr>
          <a:xfrm>
            <a:off x="6794640" y="1066680"/>
            <a:ext cx="234936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CE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tru că arborii binari de căutare au aplicaţii şi dezvoltări import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licaţii: studiul complexităţii căutărilor prin comparaţ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zvoltări: arbori echilibraţ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evre posibi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(A, x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(height(A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(height(A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(A, x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(height(A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ete(A, x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(height(A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rtare cu arbori binari de căut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533520" y="1295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 complexităţii (revisi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762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el de comporta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533520" y="1828800"/>
          <a:ext cx="8305560" cy="4754520"/>
        </p:xfrm>
        <a:graphic>
          <a:graphicData uri="http://schemas.openxmlformats.org/drawingml/2006/table">
            <a:tbl>
              <a:tblPr/>
              <a:tblGrid>
                <a:gridCol w="2076480"/>
                <a:gridCol w="2076480"/>
                <a:gridCol w="2076120"/>
                <a:gridCol w="2076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favorab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ab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 log(n)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 log(n)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 log(n)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 log(n)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 log(n)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er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 log(n)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 log(n)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 log(n)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 log(n)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 log(n)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k + 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k + 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k + 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ck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k + 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k + 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d(k + n)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d(k + n)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d(k + n)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i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u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codecodex.com/wiki/Category:Sort_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zualiză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s://opendsa-server.cs.vt.ed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rt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rt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că există valori identice, le putem identifica poziţiile iniţiale/fina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că da, atunci ele îşi păstrează ordinea relativ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bilit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495680" y="4222800"/>
          <a:ext cx="4038840" cy="1036440"/>
        </p:xfrm>
        <a:graphic>
          <a:graphicData uri="http://schemas.openxmlformats.org/drawingml/2006/table">
            <a:tbl>
              <a:tblPr/>
              <a:tblGrid>
                <a:gridCol w="577800"/>
                <a:gridCol w="576360"/>
                <a:gridCol w="576360"/>
                <a:gridCol w="577800"/>
                <a:gridCol w="576360"/>
                <a:gridCol w="576360"/>
                <a:gridCol w="577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4495680" y="5594400"/>
          <a:ext cx="4038840" cy="1036440"/>
        </p:xfrm>
        <a:graphic>
          <a:graphicData uri="http://schemas.openxmlformats.org/drawingml/2006/table">
            <a:tbl>
              <a:tblPr/>
              <a:tblGrid>
                <a:gridCol w="577800"/>
                <a:gridCol w="576360"/>
                <a:gridCol w="576360"/>
                <a:gridCol w="577800"/>
                <a:gridCol w="576360"/>
                <a:gridCol w="576360"/>
                <a:gridCol w="577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AutoShape 66"/>
          <p:cNvSpPr/>
          <p:nvPr/>
        </p:nvSpPr>
        <p:spPr>
          <a:xfrm rot="5400000">
            <a:off x="2095200" y="4076640"/>
            <a:ext cx="1752840" cy="30477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uri de sort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pă volumul de date manevr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Intern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în memoria internă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rtările uzuale; manevrează volume de date care încap integral în memoria intern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Extern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în memoria externă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rtările care manevrează volume de date care trebuie fragmentate în vederea sortării; necesită sortări interne şi/sau interclasări repe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pă necesităţile de memor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e lo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memorie suplimentară constant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Cu consum major de memorie suplimentar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depinde de dimensiunea datelor de intrar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pă metoda utilizat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rin comparaţ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lte met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6094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rt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6094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ge S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533520" y="1447920"/>
            <a:ext cx="79246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rtare prin interclas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 sorta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 comparaţ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arianta de bază est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bil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şi necesită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sum suplimentar de memor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ge_s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rr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left,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length (array) &lt; 2) return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 = jumatatea_stanga(arr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= restul(arr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r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ge_s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left)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ge_s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ight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ă recursivă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r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nterclasarea) trebuie specificat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zentare la   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GCae1WNvnZ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9:21:05Z</dcterms:created>
  <dc:creator>cerasela</dc:creator>
  <dc:description/>
  <dc:language>en-US</dc:language>
  <cp:lastModifiedBy>Cris</cp:lastModifiedBy>
  <dcterms:modified xsi:type="dcterms:W3CDTF">2019-03-18T09:26:53Z</dcterms:modified>
  <cp:revision>354</cp:revision>
  <dc:subject/>
  <dc:title>Complexitatea algoritmilor</dc:title>
</cp:coreProperties>
</file>